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0A72-45BF-4830-B76A-4E9190DBE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C758-141B-4597-9B5E-2A0AEA54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6883-CCDB-4E3D-B101-4592635A5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A5E0-795D-444D-B09F-9BFEB030D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F190-062E-4F79-8DD9-34A26B1E0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14D3-73FE-4D85-B732-E99206CF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62B7-01BC-4AF1-B56B-7482B6DE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202A-0128-4126-B172-D0C147FA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585A-FECF-4F3A-8AF9-87A24032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CFCE-56E8-4947-9498-4D5E202B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D99F-3A48-4627-BF9E-7BAE04E0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85C1-F93D-4029-9D8E-F942A1A8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149F-5B8F-48B3-9AEA-0E8AFB88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6426-8980-402B-B1E6-1F0E67D8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334B-F4AB-4807-AB58-28EF6D09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497A-1514-4408-9569-CEC2A22AE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1B02-BA93-478F-A7DF-ED5F5F60A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F77F-3DCE-49DD-B26C-372AC34B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DBAB-6F56-4865-9CF8-D478A5FB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595B-4FCC-4B0D-97E9-4F6E71DE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31F7-E616-4730-BC29-13D45AF7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7106-A248-4F83-BED9-2BC5C487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4C9A-59B3-4E7A-9091-94DD7A82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9C6F-C445-467C-B4FD-360BC57F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99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7DC5-CB5B-49B4-825D-950741A15B68}" type="slidenum">
              <a:rPr b="0" lang="en-US" sz="1400" spc="-1" strike="noStrike">
                <a:solidFill>
                  <a:srgbClr val="ffff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9526-CBA0-4FF2-99AC-244644FB33BF}" type="slidenum">
              <a:rPr b="0" lang="en-US" sz="1400" spc="-1" strike="noStrike">
                <a:solidFill>
                  <a:srgbClr val="ffff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0000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gazdasagifelsooktatas.lap.hu/egyetemek/15662675" TargetMode="External"/><Relationship Id="rId2" Type="http://schemas.openxmlformats.org/officeDocument/2006/relationships/hyperlink" Target="http://gazdasagifelsooktatas.lap.hu/foiskolak/15662667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05120" y="14479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0000"/>
                </a:solidFill>
                <a:latin typeface="Verdana"/>
              </a:rPr>
              <a:t>A</a:t>
            </a:r>
            <a:br>
              <a:rPr sz="5200"/>
            </a:br>
            <a:r>
              <a:rPr b="1" lang="en-US" sz="5200" spc="-1" strike="noStrike">
                <a:solidFill>
                  <a:srgbClr val="ff0000"/>
                </a:solidFill>
                <a:latin typeface="Verdana"/>
              </a:rPr>
              <a:t>KÖZGAZDASÁG-TUDOMÁNYI SZAK-TÁJÉKOZTATÁS</a:t>
            </a:r>
            <a:endParaRPr b="1" lang="en-US" sz="5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14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Verdana"/>
              </a:rPr>
              <a:t>2. MTA Közgazdaság- és Regionális Tudományi Kutatóközpont Világgazdasági Intézet </a:t>
            </a:r>
            <a:br>
              <a:rPr sz="2800"/>
            </a:br>
            <a:r>
              <a:rPr b="0" lang="hu-HU" sz="2800" spc="-1" strike="noStrike">
                <a:solidFill>
                  <a:srgbClr val="ff0000"/>
                </a:solidFill>
                <a:latin typeface="Verdana"/>
              </a:rPr>
              <a:t>http://www.vki.hu/intezet.shtml</a:t>
            </a:r>
            <a:endParaRPr b="0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0" y="4114800"/>
            <a:ext cx="175248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Verdana"/>
              </a:rPr>
              <a:t>3. Magyar Közgazdaságtudományi Egyesület</a:t>
            </a:r>
            <a:br>
              <a:rPr sz="3200"/>
            </a:br>
            <a:r>
              <a:rPr b="0" lang="hu-HU" sz="3200" spc="-1" strike="noStrike">
                <a:solidFill>
                  <a:srgbClr val="ff0000"/>
                </a:solidFill>
                <a:latin typeface="Verdana"/>
              </a:rPr>
              <a:t>http://www.mktudegy.hu/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981080" y="1600200"/>
            <a:ext cx="2286000" cy="5335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Verdana"/>
              </a:rPr>
              <a:t>4. GKI Gazdaságkutató Zrt. </a:t>
            </a:r>
            <a:r>
              <a:rPr b="0" lang="hu-HU" sz="4000" spc="-1" strike="noStrike">
                <a:solidFill>
                  <a:srgbClr val="ff0000"/>
                </a:solidFill>
                <a:latin typeface="Verdana"/>
              </a:rPr>
              <a:t>http://www.gki.hu/</a:t>
            </a:r>
            <a:endParaRPr b="0" lang="en-US" sz="40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029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33520" y="4191120"/>
            <a:ext cx="2666880" cy="16002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4114800"/>
            <a:ext cx="3047760" cy="1676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A GKI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szakosodott leányvállalatai</a:t>
            </a: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0292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00" name=""/>
          <p:cNvSpPr/>
          <p:nvPr/>
        </p:nvSpPr>
        <p:spPr>
          <a:xfrm>
            <a:off x="1523880" y="4876920"/>
            <a:ext cx="2971800" cy="1295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48320" y="4572000"/>
            <a:ext cx="4495680" cy="1620000"/>
          </a:xfrm>
          <a:prstGeom prst="rect">
            <a:avLst/>
          </a:prstGeom>
          <a:solidFill>
            <a:srgbClr val="3333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http://www.gki-eki.hu/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http://www.gkienergia.hu/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http://www.gki.hu/gki-tanacsado-kft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A legfontosabb tájékozódási pontok 2.</a:t>
            </a: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0000"/>
                </a:solidFill>
                <a:latin typeface="Verdana"/>
              </a:rPr>
              <a:t>Felsőoktatási intézmények:</a:t>
            </a:r>
            <a:r>
              <a:rPr b="0" lang="hu-HU" sz="3200" spc="-1" strike="noStrike">
                <a:solidFill>
                  <a:srgbClr val="ffff00"/>
                </a:solidFill>
                <a:latin typeface="Verdana"/>
              </a:rPr>
              <a:t> gazdasagifelsooktatas.lap.hu/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Verdana"/>
              </a:rPr>
              <a:t>Egyetemek: </a:t>
            </a:r>
            <a:r>
              <a:rPr b="0" lang="hu-HU" sz="3200" spc="-1" strike="noStrike" u="sng">
                <a:solidFill>
                  <a:srgbClr val="ff9999"/>
                </a:solidFill>
                <a:uFillTx/>
                <a:latin typeface="Verdana"/>
                <a:hlinkClick r:id="rId1"/>
              </a:rPr>
              <a:t>http://gazdasagifelsooktatas.lap.hu/egyetemek/15662675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Verdana"/>
              </a:rPr>
              <a:t>Főiskolák: 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ff9999"/>
                </a:solidFill>
                <a:uFillTx/>
                <a:latin typeface="Verdana"/>
                <a:hlinkClick r:id="rId2"/>
              </a:rPr>
              <a:t>http://gazdasagifelsooktatas.lap.hu/foiskolak/15662667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A legfontosabb tájékozódási pontok 3.</a:t>
            </a: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99840" y="2438280"/>
            <a:ext cx="7086600" cy="36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0000"/>
                </a:solidFill>
                <a:latin typeface="Verdana"/>
              </a:rPr>
              <a:t>Könyvkiadá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Verdana"/>
              </a:rPr>
              <a:t>http://gazdasagifelsooktatas.lap.hu/szakmai_konyvkiadok/15697138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0000"/>
                </a:solidFill>
                <a:latin typeface="Verdana"/>
              </a:rPr>
              <a:t>1. ALAP-FOGALMAK</a:t>
            </a:r>
            <a:endParaRPr b="1" lang="en-US" sz="5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A közgazdaságtan fogalma </a:t>
            </a: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15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A közgazdaságtan olyan társadalomtudomány, amely a gazdasági rendszerrel, vagyis a javak 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megtermelésével, 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elosztásával, 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értékesítésével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fogyasztásával 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foglalkozik.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A közgazdaságtan ágai</a:t>
            </a: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162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Verdana"/>
              </a:rPr>
              <a:t>Mikroökonómia</a:t>
            </a:r>
            <a:r>
              <a:rPr b="0" lang="hu-HU" sz="2800" spc="-1" strike="noStrike">
                <a:solidFill>
                  <a:srgbClr val="ffff00"/>
                </a:solidFill>
                <a:latin typeface="Verdana"/>
              </a:rPr>
              <a:t>: az egyének, emberek, háztartások termelésével, értékesítésével, a jövedelme elosztásával és fogyasztásával foglalkozik.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Verdana"/>
              </a:rPr>
              <a:t>Makroökonómia</a:t>
            </a:r>
            <a:r>
              <a:rPr b="0" lang="hu-HU" sz="2800" spc="-1" strike="noStrike">
                <a:solidFill>
                  <a:srgbClr val="ffff00"/>
                </a:solidFill>
                <a:latin typeface="Verdana"/>
              </a:rPr>
              <a:t>: az országok gazdaságának termelésével, értékesítésével, a jövedelem elosztásával és a fogyasztás kérdéseivel foglalkozó ág. 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A kifejezés etimológiája</a:t>
            </a: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„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ökonómia”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= görög eredetű kifejezé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áztartás és birtok, 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 (város)állam adminisztrációjának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yagi ügyei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A közgazdaságtan részterületei</a:t>
            </a: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358128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Verdana"/>
              </a:rPr>
              <a:t>Makroökonómia 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Verdana"/>
              </a:rPr>
              <a:t>Mikroökonómia 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Verdana"/>
              </a:rPr>
              <a:t>Agrárgazdaságtan 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Verdana"/>
              </a:rPr>
              <a:t>Államháztartástan 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Verdana"/>
              </a:rPr>
              <a:t>Fejlődésgazdaságtan 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Verdana"/>
              </a:rPr>
              <a:t>Gazdaságpolitika 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Verdana"/>
              </a:rPr>
              <a:t>Információgazdaságtan 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Verdana"/>
              </a:rPr>
              <a:t>Jóléti közgazdaságtan 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Verdana"/>
              </a:rPr>
              <a:t>Környezetgazdaságtan 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Verdana"/>
              </a:rPr>
              <a:t>Közösségi gazdaságtan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52520" y="1600200"/>
            <a:ext cx="39625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Verdana"/>
              </a:rPr>
              <a:t>Matematikai közgazdaságtan 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Verdana"/>
              </a:rPr>
              <a:t>Munkagazdaságtan 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Verdana"/>
              </a:rPr>
              <a:t>Nemzetközi gazdaságtan 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Verdana"/>
              </a:rPr>
              <a:t>Pénzügytan 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Verdana"/>
              </a:rPr>
              <a:t>Regionális gazdaságtan 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Verdana"/>
              </a:rPr>
              <a:t>Vállalatgazdaságtan 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Verdana"/>
              </a:rPr>
              <a:t>Viselkedésgazdaságtan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47920" y="102960"/>
            <a:ext cx="7238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Kapcsolódó tudományok és segédtudományok</a:t>
            </a: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35812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ffff00"/>
                </a:solidFill>
                <a:latin typeface="Verdana"/>
              </a:rPr>
              <a:t>Játékelmélet </a:t>
            </a:r>
            <a:endParaRPr b="0" lang="en-US" sz="25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ffff00"/>
                </a:solidFill>
                <a:latin typeface="Verdana"/>
              </a:rPr>
              <a:t>Kereskedelmi jog </a:t>
            </a:r>
            <a:endParaRPr b="0" lang="en-US" sz="25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ffff00"/>
                </a:solidFill>
                <a:latin typeface="Verdana"/>
              </a:rPr>
              <a:t>Gazdaságföldrajz </a:t>
            </a:r>
            <a:endParaRPr b="0" lang="en-US" sz="25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ffff00"/>
                </a:solidFill>
                <a:latin typeface="Verdana"/>
              </a:rPr>
              <a:t>Gazdaságtörténet </a:t>
            </a:r>
            <a:endParaRPr b="0" lang="en-US" sz="25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ffff00"/>
                </a:solidFill>
                <a:latin typeface="Verdana"/>
              </a:rPr>
              <a:t>Marketing </a:t>
            </a:r>
            <a:endParaRPr b="0" lang="en-US" sz="25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ffff00"/>
                </a:solidFill>
                <a:latin typeface="Verdana"/>
              </a:rPr>
              <a:t>Matematika </a:t>
            </a:r>
            <a:endParaRPr b="0" lang="en-US" sz="25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ffff00"/>
                </a:solidFill>
                <a:latin typeface="Verdana"/>
              </a:rPr>
              <a:t>Ökonometria </a:t>
            </a:r>
            <a:endParaRPr b="0" lang="en-US" sz="25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ffff00"/>
                </a:solidFill>
                <a:latin typeface="Verdana"/>
              </a:rPr>
              <a:t>Politikatudomány</a:t>
            </a:r>
            <a:endParaRPr b="0" lang="en-US" sz="25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81120" y="1828440"/>
            <a:ext cx="35053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Verdana"/>
              </a:rPr>
              <a:t>Pszichológia </a:t>
            </a:r>
            <a:endParaRPr b="0" lang="en-US" sz="25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Verdana"/>
              </a:rPr>
              <a:t>Rendszerelmélet </a:t>
            </a:r>
            <a:endParaRPr b="0" lang="en-US" sz="25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Verdana"/>
              </a:rPr>
              <a:t>Statisztika </a:t>
            </a:r>
            <a:endParaRPr b="0" lang="en-US" sz="25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Verdana"/>
              </a:rPr>
              <a:t>Számvitel </a:t>
            </a:r>
            <a:endParaRPr b="0" lang="en-US" sz="25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Verdana"/>
              </a:rPr>
              <a:t>Szervezés-tudomány </a:t>
            </a:r>
            <a:endParaRPr b="0" lang="en-US" sz="25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Verdana"/>
              </a:rPr>
              <a:t>Szociológia</a:t>
            </a:r>
            <a:endParaRPr b="0" lang="en-US" sz="25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A legfontosabb tájékozódási pontok 1. </a:t>
            </a: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Kutatóintézetek, szakmai közösségek: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Magyar Tudományos Akadémia Közgazdaság- és Regionális Tudományi Kutatóközpont Közgazdaság-tudományi Intézete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http://www.econ.core.hu/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2. MTA Közgazdaság- és Regionális Tudományi Kutatóközpont Világgazdasági Intézet 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http://www.vki.hu/intezet.shtml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3. Magyar Közgazdaságtudományi Egyesület: http://www.mktudegy.hu/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4. GKI Gazdaságkutató Zrt. 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http://www.gki.hu/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Verdana"/>
              </a:rPr>
              <a:t>1. MTA Közgazdaság- és Regionális Tudományi Kutatóközpont Közgazdaság-tudományi Intézete</a:t>
            </a:r>
            <a:br>
              <a:rPr sz="2400"/>
            </a:br>
            <a:r>
              <a:rPr b="0" lang="hu-HU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0000"/>
                </a:solidFill>
                <a:latin typeface="Verdana"/>
              </a:rPr>
              <a:t>http://www.econ.core.hu/</a:t>
            </a: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38080" y="3048120"/>
            <a:ext cx="1524240" cy="609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pos Anna Magdolna</cp:lastModifiedBy>
  <dcterms:modified xsi:type="dcterms:W3CDTF">2013-02-11T10:03:5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